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2A32B-D72C-48CB-BA62-8E4ECC4E7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44D3C-C8CD-4C5F-A343-AF6D2607A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1F39A-A500-4FF8-9AFF-5358791A4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0E800-5854-400E-9B6A-0C28128A3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F0364-00F0-4CCB-9302-E9DB15932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2AF83-0278-449B-A085-7B449C519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CC48D-091B-47C5-9EEB-047C23361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7B33F-F149-4160-BDA2-0C6430EA7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17E76-5E3D-47C5-9F0A-62C2D99EA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842B4-AADE-442C-AD4E-856625E32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566D5-2D9F-4277-A038-0D3F49960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10999-001F-40CF-9E16-54D300CE5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9231F-8361-4AA8-A1AE-F032D5877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E0327-0043-4AC8-B30F-DE41A9FAB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C1E66-D370-47C4-A307-C65BBE8BF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30343-9B9B-4DF4-85CE-709CF6588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5CC14-A3DE-4EEE-BCC6-4B51ACF04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52EE7-029B-43D2-8AAC-678E7F2290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B92A2-BC27-4F10-8C81-68293D216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05156-35A0-4EA2-B678-343627CB3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C37F1-5740-4173-B489-EDE87D6F4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4C9D76-EC7E-47B4-A531-E9B841211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9FC53-275B-4731-867A-8217600EA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7582D-2610-415B-BADD-BF89203E0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B1D8B-CABE-4C04-933C-B51A72FAD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00EA7-8A94-4ECD-B8E6-27059CA8F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A69D6-0E5D-4DD6-B2E2-0BC31F2C9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F400E-CCDF-4DD7-800D-2649B29CD9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FD556E-E159-4084-96B9-B5296AF8B9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93A77E-BE1F-4812-87C0-511A6F550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7A485-4310-4A01-B67F-CA6FF3C0F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DA507-B16F-4AA8-AE9C-C5B2058D2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116BC-C3AE-4D33-8143-C814DC703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3ABEF-A2BE-41BE-A6CF-4EBD880AA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0F41-FBD3-42D7-AAFE-8AC4778A4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C8520-428D-4418-BB79-A4C0D15F7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74C3-FDF8-494E-AE93-9081C8C9C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FD9C-57BF-4547-9241-E3B57B0363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7E69-A648-410C-818A-65291EBF49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PS)</a:t>
            </a:r>
            <a:endParaRPr b="0" lang="en-US" sz="3200" spc="-1" strike="noStrike">
              <a:solidFill>
                <a:srgbClr val="ffffff"/>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ansaction processing systems </a:t>
            </a:r>
            <a:r>
              <a:rPr b="1" lang="en-US" sz="3200" spc="-1" strike="noStrike">
                <a:solidFill>
                  <a:srgbClr val="000000"/>
                </a:solidFill>
                <a:latin typeface="Arial"/>
              </a:rPr>
              <a:t>automate the handling of data about business activities or transa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PS)</a:t>
            </a:r>
            <a:endParaRPr b="0" lang="en-US" sz="3200" spc="-1" strike="noStrike">
              <a:solidFill>
                <a:srgbClr val="ffffff"/>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TPS is to improve transaction processing by speeding it up, using fewer people, improving efficiency and accuracy, integrating it with other organizational information systems or providing information not previously availab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IS)</a:t>
            </a:r>
            <a:endParaRPr b="0" lang="en-US" sz="3200" spc="-1" strike="noStrike">
              <a:solidFill>
                <a:srgbClr val="ffffff"/>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nagement information systems </a:t>
            </a:r>
            <a:r>
              <a:rPr b="1" lang="en-US" sz="3200" spc="-1" strike="noStrike">
                <a:solidFill>
                  <a:srgbClr val="000000"/>
                </a:solidFill>
                <a:latin typeface="Arial"/>
              </a:rPr>
              <a:t>are distinct from regular information systems in that they are used to analyze other information systems applied in operational activities in the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IS)</a:t>
            </a:r>
            <a:endParaRPr b="0" lang="en-US" sz="3200" spc="-1" strike="noStrike">
              <a:solidFill>
                <a:srgbClr val="ffffff"/>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y are the subset of the overall internal controls of a business covering the application of people, documents, technologies, and procedur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SS)</a:t>
            </a:r>
            <a:endParaRPr b="0" lang="en-US" sz="3200" spc="-1" strike="noStrike">
              <a:solidFill>
                <a:srgbClr val="ffffff"/>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cision Support Systems </a:t>
            </a:r>
            <a:r>
              <a:rPr b="1" lang="en-US" sz="3200" spc="-1" strike="noStrike">
                <a:solidFill>
                  <a:srgbClr val="000000"/>
                </a:solidFill>
                <a:latin typeface="Arial"/>
              </a:rPr>
              <a:t>are a specific class of computerized information systems that supports business and organizational decision-making activ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SS)</a:t>
            </a:r>
            <a:endParaRPr b="0" lang="en-US" sz="3200" spc="-1" strike="noStrike">
              <a:solidFill>
                <a:srgbClr val="ffffff"/>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y are interactive software-based systems intended to help decision makers compile useful information from raw data, documents, personal knowledge, and/or business models to identify and solve problems and make decis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 expert system</a:t>
            </a:r>
            <a:endParaRPr b="0" lang="en-US" sz="3200" spc="-1" strike="noStrike">
              <a:solidFill>
                <a:srgbClr val="ffffff"/>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software that attempts to reproduce the performance of one or more human experts, most commonly in a specific problem domain, and is a traditional application and/or subfield of artificial intelligenc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ffice automation</a:t>
            </a:r>
            <a:endParaRPr b="0" lang="en-US" sz="3200" spc="-1" strike="noStrike">
              <a:solidFill>
                <a:srgbClr val="ffffff"/>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s to the varied computer machinery and software used to digitally create, collect, store, manipulate, and relay office information needed for accomplishing basic tasks and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technologies are a very important and flexible resource available to executi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y companies have created a position of Chief Information Officer (CIO) that sits on the executive board, as well as the Chief Information Security Officer (CISO), who focuses on information security within an organiz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graphicFrame>
        <p:nvGraphicFramePr>
          <p:cNvPr id="127" name=""/>
          <p:cNvGraphicFramePr/>
          <p:nvPr/>
        </p:nvGraphicFramePr>
        <p:xfrm>
          <a:off x="380880" y="1600200"/>
          <a:ext cx="8229600" cy="4525920"/>
        </p:xfrm>
        <a:graphic>
          <a:graphicData uri="http://schemas.openxmlformats.org/drawingml/2006/table">
            <a:tbl>
              <a:tblPr/>
              <a:tblGrid>
                <a:gridCol w="943200"/>
                <a:gridCol w="1255680"/>
                <a:gridCol w="3486240"/>
                <a:gridCol w="254448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1. </a:t>
                      </a:r>
                      <a:r>
                        <a:rPr b="1" lang="en-GB" sz="1400" spc="-1" strike="noStrike">
                          <a:solidFill>
                            <a:srgbClr val="000000"/>
                          </a:solidFill>
                          <a:latin typeface="Arial"/>
                        </a:rPr>
                        <a:t>Information Technolog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вођење у основе стручног енглеског језика из области информационих систем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General Introd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бити упознат са садржајем предмета и начином рад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0000"/>
                          </a:solidFill>
                          <a:latin typeface="Arial"/>
                        </a:rPr>
                        <a:t>1.2</a:t>
                      </a:r>
                      <a:r>
                        <a:rPr b="0" lang="en-GB" sz="1400" spc="-1" strike="noStrike">
                          <a:solidFill>
                            <a:srgbClr val="ff0000"/>
                          </a:solidFill>
                          <a:latin typeface="Arial"/>
                        </a:rPr>
                        <a:t>  </a:t>
                      </a:r>
                      <a:r>
                        <a:rPr b="0" lang="en-US" sz="1400" spc="-1" strike="noStrike">
                          <a:solidFill>
                            <a:srgbClr val="ff0000"/>
                          </a:solidFill>
                          <a:latin typeface="Arial"/>
                        </a:rPr>
                        <a:t>Information Syste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основне појмове и термине из области информационих систем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technology departments in larger organizations tend to strongly influence information technology development, use, and application in the organizations, which may be a business or corpor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ehension questions</a:t>
            </a:r>
            <a:endParaRPr b="0" lang="en-US" sz="3200" spc="-1" strike="noStrike">
              <a:solidFill>
                <a:srgbClr val="ffffff"/>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information system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various types of information system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new categories used for the information system classifi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ach of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0000"/>
                          </a:solidFill>
                          <a:latin typeface="Arial"/>
                        </a:rPr>
                        <a:t>1.2</a:t>
                      </a:r>
                      <a:r>
                        <a:rPr b="0" lang="en-GB" sz="1400" spc="-1" strike="noStrike">
                          <a:solidFill>
                            <a:srgbClr val="ff0000"/>
                          </a:solidFill>
                          <a:latin typeface="Arial"/>
                        </a:rPr>
                        <a:t>  </a:t>
                      </a:r>
                      <a:r>
                        <a:rPr b="0" lang="en-US" sz="1400" spc="-1" strike="noStrike">
                          <a:solidFill>
                            <a:srgbClr val="ff0000"/>
                          </a:solidFill>
                          <a:latin typeface="Arial"/>
                        </a:rPr>
                        <a:t>Information Syste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основне појмове и термине из области информационих система</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Text Box 18"/>
          <p:cNvSpPr/>
          <p:nvPr/>
        </p:nvSpPr>
        <p:spPr>
          <a:xfrm>
            <a:off x="304920" y="3790800"/>
            <a:ext cx="8762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НАСТАВНИ МЕТОД</a:t>
            </a:r>
            <a:r>
              <a:rPr b="1" lang="en-US" sz="1600" spc="-1" strike="noStrike">
                <a:solidFill>
                  <a:srgbClr val="333399"/>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3399"/>
                </a:solidFill>
                <a:latin typeface="Arial"/>
              </a:rPr>
              <a:t>Предавање и дискусиј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a general sense,</a:t>
            </a:r>
            <a:endParaRPr b="0" lang="en-US" sz="3200" spc="-1" strike="noStrike">
              <a:solidFill>
                <a:srgbClr val="ffffff"/>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	</a:t>
            </a:r>
            <a:r>
              <a:rPr b="1" lang="en-US" sz="3200" spc="-1" strike="noStrike">
                <a:solidFill>
                  <a:srgbClr val="000000"/>
                </a:solidFill>
                <a:latin typeface="Arial"/>
              </a:rPr>
              <a:t>The term refers to a system of people, data records and activities that process the data and information in an organization</a:t>
            </a:r>
            <a:r>
              <a:rPr b="1" lang="sr-C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	</a:t>
            </a:r>
            <a:r>
              <a:rPr b="1" lang="en-US" sz="3200" spc="-1" strike="noStrike">
                <a:solidFill>
                  <a:srgbClr val="000000"/>
                </a:solidFill>
                <a:latin typeface="Arial"/>
              </a:rPr>
              <a:t>It includes the organization's manual and automated process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the narrow sense,</a:t>
            </a:r>
            <a:endParaRPr b="0" lang="en-US" sz="3200" spc="-1" strike="noStrike">
              <a:solidFill>
                <a:srgbClr val="ffffff"/>
              </a:solidFill>
              <a:latin typeface="Arial"/>
            </a:endParaRPr>
          </a:p>
        </p:txBody>
      </p:sp>
      <p:sp>
        <p:nvSpPr>
          <p:cNvPr id="134" name=""/>
          <p:cNvSpPr txBox="1"/>
          <p:nvPr/>
        </p:nvSpPr>
        <p:spPr>
          <a:xfrm>
            <a:off x="457200" y="914040"/>
            <a:ext cx="8229600" cy="5211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refers to the specific application software that is used to store data records in a computer system and automates some of the information-processing activities of the organiz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formation Systems</a:t>
            </a:r>
            <a:endParaRPr b="0" lang="en-US" sz="3200" spc="-1" strike="noStrike">
              <a:solidFill>
                <a:srgbClr val="ffffff"/>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r-based information systems are in the field of information technolo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scipline of business process modelling describes the business processes supported by information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Types of information systems:</a:t>
            </a:r>
            <a:br>
              <a:rPr sz="2800"/>
            </a:br>
            <a:endParaRPr b="0" lang="en-US" sz="2800" spc="-1" strike="noStrike">
              <a:solidFill>
                <a:srgbClr val="ffffff"/>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action processing syste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support syste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 management syste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base management syste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e information systems and many other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ormation technologies</a:t>
            </a:r>
            <a:endParaRPr b="0" lang="en-US" sz="3200" spc="-1" strike="noStrike">
              <a:solidFill>
                <a:srgbClr val="ffffff"/>
              </a:solidFill>
              <a:latin typeface="Arial"/>
            </a:endParaRPr>
          </a:p>
        </p:txBody>
      </p:sp>
      <p:sp>
        <p:nvSpPr>
          <p:cNvPr id="140" name=""/>
          <p:cNvSpPr txBox="1"/>
          <p:nvPr/>
        </p:nvSpPr>
        <p:spPr>
          <a:xfrm>
            <a:off x="457200" y="990360"/>
            <a:ext cx="8229600" cy="5135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e typically designed to enable humans to perform tasks for which the human brain is not well suited, such 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andling large amounts of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erforming complex calculation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ling many simultaneous proc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categories </a:t>
            </a:r>
            <a:br>
              <a:rPr sz="3200"/>
            </a:br>
            <a:endParaRPr b="0" lang="en-US" sz="3200" spc="-1" strike="noStrike">
              <a:solidFill>
                <a:srgbClr val="ffffff"/>
              </a:solidFill>
              <a:latin typeface="Arial"/>
            </a:endParaRPr>
          </a:p>
        </p:txBody>
      </p:sp>
      <p:sp>
        <p:nvSpPr>
          <p:cNvPr id="142" name=""/>
          <p:cNvSpPr txBox="1"/>
          <p:nvPr/>
        </p:nvSpPr>
        <p:spPr>
          <a:xfrm>
            <a:off x="457200" y="1066680"/>
            <a:ext cx="8229600" cy="5059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examples 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action processing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informatio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suppor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r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e automation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0:33:45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